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4ADC-DF7C-4F53-B6F9-60BB2A444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77C0-21BD-4449-869D-6FD01379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755E-5FBB-46E9-B7F0-4C6D059C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94EE-E03A-48CE-843B-BE4DB921C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BBC6-CA33-45F8-8B4D-6A7BE12B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7807-E59F-4358-B107-4DD8919B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0D10-684C-4B44-9D3B-7F0FF9F1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B901-EC4F-4146-8CEE-9A325872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EA51-3000-4973-8033-307275F4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CD8E-B14F-4C10-AA9B-EABBFE93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92C2-B2B0-4639-BDC7-127804F8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3AAD-344F-45DD-BA9C-18772DA3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6BD6-516E-4FC2-B3A9-DA06B5F91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camec2010.ning.com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124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Holy Child Academ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hanging Ti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hanging 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0" r="0" b="33791"/>
          <a:stretch/>
        </p:blipFill>
        <p:spPr>
          <a:xfrm>
            <a:off x="380880" y="0"/>
            <a:ext cx="762012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2010 and Beyo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reless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ent owned laptops for Grades 7 &amp;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 Based Discovery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lobal 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eacher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WEB 3.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42667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The Information Revolution”</a:t>
            </a:r>
            <a:br>
              <a:rPr sz="4400"/>
            </a:b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To the tune of:</a:t>
            </a:r>
            <a:br>
              <a:rPr sz="4400"/>
            </a:b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“We Didn’t Start the Fire” </a:t>
            </a:r>
            <a:br>
              <a:rPr sz="4400"/>
            </a:br>
            <a:r>
              <a:rPr b="1" i="1" lang="en-US" sz="4400" spc="-1" strike="noStrike">
                <a:solidFill>
                  <a:srgbClr val="0000cc"/>
                </a:solidFill>
                <a:latin typeface="Arial"/>
              </a:rPr>
              <a:t>by Billy Joe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uter chip, calculators, integrated circuit breaker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x machines, satellites,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n the phone, up all night!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in frames, PC’s , synthesizers, Apple 2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eve Jobs, Bill Gates,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Dial Up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in Every Sta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line, World Wide Web, Hyperlink, AIM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efox, Netscape, Java Script, Elluminate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dcast, RSS, Wikis and Delicious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ebook, Ningin’ It, Twitter, Blogs and Google I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 didn’t start the fire,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It was always burnin’,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ince the world’s been turnin’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 gonna SPARK the fire,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o keep them learnin’,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s the world keeps turnin’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ur Go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e faculty and administration to importance of Web 2.0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monstrate integration of web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vide professional development opportun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here We A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990720"/>
            <a:ext cx="9144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the s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pple effec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s, Blogs, Glogs, Twitter, Google R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ve 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nge &amp; the Future Face of H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ulty 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camec2010.ning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faculty comfort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ing the value in using the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updated downloa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at’s Happening Now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4876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g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, 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d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y Child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ce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Cou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181480" y="1219320"/>
            <a:ext cx="3505320" cy="2630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17365" t="10405" r="1632" b="8348"/>
          <a:stretch/>
        </p:blipFill>
        <p:spPr>
          <a:xfrm>
            <a:off x="5181480" y="4038480"/>
            <a:ext cx="35053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here We Want to Go in 2009 - 20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aculty Implement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tudent Appli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arent Edu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Faculty Implement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49528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ersion into Web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to use one tool a seme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er Seminars – Introduce Web 2.0 tools in day long works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 Tuesdays” – Review one tool per month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 Men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0" r="14550" b="34916"/>
          <a:stretch/>
        </p:blipFill>
        <p:spPr>
          <a:xfrm>
            <a:off x="4800600" y="2286000"/>
            <a:ext cx="419112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tudent Appli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Based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ing resources 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s, Delic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ades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x Muse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17038" t="0" r="10560" b="6329"/>
          <a:stretch/>
        </p:blipFill>
        <p:spPr>
          <a:xfrm>
            <a:off x="5257800" y="914400"/>
            <a:ext cx="3598920" cy="2700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0" t="16924" r="17499" b="18214"/>
          <a:stretch/>
        </p:blipFill>
        <p:spPr>
          <a:xfrm>
            <a:off x="5257800" y="1600200"/>
            <a:ext cx="3657600" cy="2157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rcRect l="0" t="0" r="14550" b="21900"/>
          <a:stretch/>
        </p:blipFill>
        <p:spPr>
          <a:xfrm>
            <a:off x="5257800" y="2819520"/>
            <a:ext cx="3733920" cy="256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257800" y="3941640"/>
            <a:ext cx="388620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500"/>
                            </p:stCondLst>
                            <p:childTnLst>
                              <p:par>
                                <p:cTn id="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2500"/>
                            </p:stCondLst>
                            <p:childTnLst>
                              <p:par>
                                <p:cTn id="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7500"/>
                            </p:stCondLst>
                            <p:childTnLst>
                              <p:par>
                                <p:cTn id="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2500"/>
                            </p:stCondLst>
                            <p:childTnLst>
                              <p:par>
                                <p:cTn id="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arent Edu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72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Web 2.0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priate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top N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dle School laptop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7463" r="29299" b="0"/>
          <a:stretch/>
        </p:blipFill>
        <p:spPr>
          <a:xfrm>
            <a:off x="5105520" y="1143000"/>
            <a:ext cx="32763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44956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are Lesson Plans through 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er Eval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or observer and facili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f Eval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ort created ru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8006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13:25:29Z</dcterms:created>
  <dc:creator>mcameron</dc:creator>
  <dc:description/>
  <dc:language>en-US</dc:language>
  <cp:lastModifiedBy>jmoleski</cp:lastModifiedBy>
  <dcterms:modified xsi:type="dcterms:W3CDTF">2009-03-24T21:07:43Z</dcterms:modified>
  <cp:revision>30</cp:revision>
  <dc:subject/>
  <dc:title>Holy Child Academy</dc:title>
</cp:coreProperties>
</file>